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7FE-B6BA-40EE-AE18-60BEE73C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83F-1E8D-4018-8016-F3642057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2AE-E665-4407-B2B3-06684E64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EA5-B00F-4D98-A4E1-3F89508C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B38C-5159-4714-8ED1-D8CD1CD8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2094-AA4E-4336-9580-46A5546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9F7-CF6F-4F92-90BF-1E7ECA10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0B9-19F7-42E3-B62A-1784F8DD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8231-6EAF-41F0-B9E5-0F1C02FA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3853-4D0B-42B2-9A43-977F3BCC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56A7-DFEF-49D4-A28F-E2AF56F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140-CB65-4DCC-878C-9BC5A7F8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5E6-8A11-40FA-BD9B-7DDB5117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AD2-5DA7-443A-8AC1-63ADAB9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C692-991D-4F76-8E74-50560E19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B80-E88B-4F8B-BD94-10F6FC40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16EC-3398-4A78-A7BF-12197441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D6C2-26BA-46F8-BA1D-FA80DC18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46B8-D2BB-40D1-A4D9-19AAB46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E1DA-6227-48A6-AF4A-7E37D89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198B-EBFD-4B68-9D83-56C3BA6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C690-A9E9-4B48-B2C4-9ADC19F4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C09-414C-4635-B83B-24762E8F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80E6-C804-440E-85A7-DD37894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FC84-5F7C-43A9-A560-1AC0C25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E8EB-0401-4C40-BCB8-677D3B36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0F1C-B49D-4330-8E9E-A4790C7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36D6-F072-474D-93FC-13975BF4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189E-48A5-49B8-956B-9EA68122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48C3-561A-468F-804E-185DC58C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C5EF6-80D1-46F3-BC6E-ABDEB6AC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F7AA-093D-4179-81EE-2BA7434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7FCC-78A6-4410-9D39-10D255DC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7D6-951F-44C9-BD32-E4B3AFF4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93D7-C1A0-4300-97EB-8BDE16AF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E89D-6B7C-434B-85D0-62F064DF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A2C5B-1DA1-4636-84D1-DB0EE66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4A5F-EF3F-4C51-B24A-BB0ED98B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7601-F9D2-44A3-B2ED-1019CCA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A7EB-5C0A-4094-8358-CD68DD89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0623-252B-4D4A-9B78-89B57A1D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EEE1-CE14-4902-AF5E-68C8AF14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EC05-7100-42E7-B59F-D2B69910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6E5-D40C-4AC6-A09E-98ADE061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669-6C0D-4299-B518-CFAF7C44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7B5-AF80-4D59-9BB8-14469EC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888-C07C-49C4-A09E-A2BF5EAD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727-679C-4B94-9D72-39096C87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FF7-8ECA-40E9-9F0F-40878B20EC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963-AC1E-4538-93CE-6789550C14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7B79-49C5-4870-A635-63EE85FE5DA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C556-8280-40AA-98D8-0EBDB164F48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 a comment to your previous program to explain who created it, when, and for which purp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1B0-FF4F-4361-B352-54BC3AB9D9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 Ty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: +ve or –ve natur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: +ve or –ve decim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“Hell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841-7272-4275-9A73-C54E8B6C82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function called myCircle()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r as 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pi as 3.1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area of the circle as pi*r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 perimeter of the circle as 2*pi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following mess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ircle with radius …, area=… and perimeter=….”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placed the dots before with the radius, calculated area, and calculated perimet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r to be 20.5 and re-execute the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DD76-FAE1-4EAC-A9DE-81D9CDD3B75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ti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 programming, using the Jython programming languag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ill be written using the Jython Environment for Students (J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tutorial, you should be familiar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onst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E08F-3326-4182-895F-C3ADFD4D59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Jython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ython is an implementation of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yth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nguage written in the java programming 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of writing cod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box (for codes you want to save in fi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box (interactive window) for ad-hoc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AF37-5311-405E-A3CF-FF1651CCCA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ontent Placeholder 6" descr="JESBlackWindow.pn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6236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22DE-CB91-40E0-BE3C-7AFD6131F3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interactive window (black box), writ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 World!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” + “ pytho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 "Hello” + “ JES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add a space before the second 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get the last typed statement by using upper 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double quotes before and afte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0D3E-F010-4073-8021-129D93CADB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n be written only in white bo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funcName(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Hell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ake care that you must make inden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ecute a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it first with to 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load but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lack box write:  funcName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0F84-C527-401A-A827-77C5777F9F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s your name and your ID; 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434960" indent="-4572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 130099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=10, y=20, pr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CAA-75FC-423E-8B21-987D431436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your output should look lik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134898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 = 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=2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=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=-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6D8F-4B0B-4B17-BD87-F041C725AE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 are very important for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not being executed. This is just for your underst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rite a com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# in the beginning of the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his program was created by Dina Said as an example for CPSC771, week1-lab1 of problem solving on March 4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9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B11-DC23-4786-88F1-9587AE4DF6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04T19:56:12Z</dcterms:modified>
  <cp:revision>152</cp:revision>
  <dc:subject/>
  <dc:title>CPSC 203</dc:title>
</cp:coreProperties>
</file>